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18872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AE9-50DD-49A9-9E28-FFA5F974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1010304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2080" y="4680720"/>
            <a:ext cx="1010304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B1C-46EB-4A6E-B625-FB61FC89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2080" y="468072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9240" y="468072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FC3-AE69-49C7-B1A1-86CE8A72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8120" y="224460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24160" y="224460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2080" y="468072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08120" y="468072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24160" y="468072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2AE-5DF0-4989-B0EC-33C71F10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1586-2C63-4CAD-941F-43BEA9B0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2080" y="2244600"/>
            <a:ext cx="1010304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EE06-DBAB-40BE-A9FA-0A7B6A68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1010304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85CA-5D32-41AF-A168-2A742304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F508-119C-4843-BED3-2632A42C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4423-1E2B-4676-BCC7-920B0D01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2080" y="690120"/>
            <a:ext cx="10103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0511-6340-4FCB-AC10-9A4E009D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2080" y="468072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4B66-8C50-4695-8B46-0E286CD4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2080" y="2244600"/>
            <a:ext cx="1010304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374-07EE-445E-94B3-2172BBBB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69240" y="468072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0A1A-B2AB-4BC9-9772-D64A3855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2080" y="4680720"/>
            <a:ext cx="1010304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CC1F-4178-4D75-AF2F-C8836CEB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1010304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2080" y="4680720"/>
            <a:ext cx="1010304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C1B7-A58B-4F60-AC72-1AF3418B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2080" y="468072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69240" y="468072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E9D8-E293-4CEF-9439-C3F27ED7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08120" y="224460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24160" y="224460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2080" y="468072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08120" y="468072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24160" y="468072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19A0-458C-4894-827B-1BE9B673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1010304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A6C-C14D-4B99-9C82-1BD2139B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9AD-51B9-4B3B-A7E9-BBAC3BD9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48CD-BD4B-4AD9-9DD2-7DB14BBF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2080" y="690120"/>
            <a:ext cx="10103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A32-9033-439E-AAB1-EFB6E47B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2080" y="468072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B88-9FFF-40CD-893B-C26C0425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9240" y="468072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305-2E59-4DDC-9C33-C037F5BE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2080" y="4680720"/>
            <a:ext cx="1010304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8920-3BE4-4DE4-B39F-6345C728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2080" y="2244600"/>
            <a:ext cx="1010304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 fontScale="92000"/>
          </a:bodyPr>
          <a:p>
            <a:pPr marL="387000" indent="-3870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2292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5848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3" marL="1807920" indent="-25812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4" marL="2324880" indent="-25812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5" marL="2324880" indent="-25812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6" marL="2324880" indent="-25812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1720" y="7081560"/>
            <a:ext cx="2476440" cy="51732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Autofit/>
          </a:bodyPr>
          <a:lstStyle>
            <a:lvl1pPr indent="0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60800" y="7081560"/>
            <a:ext cx="3765600" cy="51732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Autofit/>
          </a:bodyPr>
          <a:lstStyle>
            <a:lvl1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18320" y="7081560"/>
            <a:ext cx="2476440" cy="51732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Autofit/>
          </a:bodyPr>
          <a:lstStyle>
            <a:lvl1pPr indent="0" algn="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fld id="{796774B2-256F-4073-BFE7-162666FFD65E}" type="slidenum">
              <a:rPr b="0" lang="en-US" sz="17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2080" y="2590920"/>
            <a:ext cx="10103040" cy="1295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91720" y="7081560"/>
            <a:ext cx="2476440" cy="51732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Autofit/>
          </a:bodyPr>
          <a:lstStyle>
            <a:lvl1pPr indent="0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60800" y="7081560"/>
            <a:ext cx="3765600" cy="51732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Autofit/>
          </a:bodyPr>
          <a:lstStyle>
            <a:lvl1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518320" y="7081560"/>
            <a:ext cx="2476440" cy="51732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Autofit/>
          </a:bodyPr>
          <a:lstStyle>
            <a:lvl1pPr indent="0" algn="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fld id="{39ED46FB-88E1-4E9B-8268-4B026CD2681B}" type="slidenum">
              <a:rPr b="0" lang="en-US" sz="17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94360" y="1818720"/>
            <a:ext cx="1069812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75"/>
              </a:spcBef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0" algn="ctr">
              <a:spcBef>
                <a:spcPts val="850"/>
              </a:spcBef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23920" algn="ctr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84440" algn="ctr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246400" algn="ctr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246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246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2080" y="22093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5400" spc="-1" strike="noStrike">
                <a:solidFill>
                  <a:srgbClr val="ff8000"/>
                </a:solidFill>
                <a:latin typeface="Palatino"/>
              </a:rPr>
              <a:t>Feature Artic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88920" y="3657240"/>
            <a:ext cx="8321400" cy="16923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Palatino"/>
              </a:rPr>
              <a:t>Searching for a Focu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Palatino"/>
              </a:rPr>
              <a:t>Big Idea or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4480" y="700416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6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81640" y="-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91040" y="7718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815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10309320" cy="16718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Palatino"/>
              </a:rPr>
              <a:t>A Feature Article Usually Has A ‘BIG IDEA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422440"/>
            <a:ext cx="10744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000"/>
                </a:solidFill>
                <a:latin typeface="Palatino"/>
              </a:rPr>
              <a:t>After choosing a topic, feature article writers need to find a ‘big idea’ about the topic they want to share with the read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Palatino"/>
              </a:rPr>
              <a:t>This idea is the one their whole article will focus on.</a:t>
            </a:r>
            <a:r>
              <a:rPr b="0" lang="en-US" sz="4000" spc="-1" strike="noStrike">
                <a:solidFill>
                  <a:srgbClr val="ff8000"/>
                </a:solidFill>
                <a:latin typeface="Palatino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000"/>
                </a:solidFill>
                <a:latin typeface="Palatino"/>
              </a:rPr>
              <a:t>All of their information will support this id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5400" spc="-1" strike="noStrike">
                <a:solidFill>
                  <a:srgbClr val="ff8000"/>
                </a:solidFill>
                <a:latin typeface="Palatino"/>
              </a:rPr>
              <a:t>SEARCHING FOR</a:t>
            </a:r>
            <a:r>
              <a:rPr b="0" lang="en-US" sz="5400" spc="-1" strike="noStrike">
                <a:solidFill>
                  <a:srgbClr val="ffff00"/>
                </a:solidFill>
                <a:latin typeface="Palatino"/>
              </a:rPr>
              <a:t> </a:t>
            </a:r>
            <a:r>
              <a:rPr b="0" lang="en-US" sz="5400" spc="-1" strike="noStrike">
                <a:solidFill>
                  <a:srgbClr val="ff8000"/>
                </a:solidFill>
                <a:latin typeface="Palatino"/>
              </a:rPr>
              <a:t>A</a:t>
            </a:r>
            <a:r>
              <a:rPr b="0" lang="en-US" sz="5400" spc="-1" strike="noStrike">
                <a:solidFill>
                  <a:srgbClr val="ffff00"/>
                </a:solidFill>
                <a:latin typeface="Palatino"/>
              </a:rPr>
              <a:t>’BIG IDEA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91720" y="2244600"/>
            <a:ext cx="980604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marL="4208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400" spc="-1" strike="noStrike">
                <a:solidFill>
                  <a:srgbClr val="ff8000"/>
                </a:solidFill>
                <a:latin typeface="Palatino"/>
              </a:rPr>
              <a:t>Feature article writer’s find this idea by asking themselves questions lik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850"/>
              </a:spcBef>
              <a:buClr>
                <a:srgbClr val="ffff00"/>
              </a:buClr>
              <a:buFont typeface="Palatino"/>
              <a:buChar char="•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Palatino"/>
              </a:rPr>
              <a:t>What can I say about this topic that will be new or uniqu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850"/>
              </a:spcBef>
              <a:buClr>
                <a:srgbClr val="ffff00"/>
              </a:buClr>
              <a:buFont typeface="Palatino"/>
              <a:buChar char="•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Palatino"/>
              </a:rPr>
              <a:t>What part of this topic is special to m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850"/>
              </a:spcBef>
              <a:buClr>
                <a:srgbClr val="ffff00"/>
              </a:buClr>
              <a:buFont typeface="Palatino"/>
              <a:buChar char="•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Palatino"/>
              </a:rPr>
              <a:t>What part of this topic bugs m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5400" spc="-1" strike="noStrike">
                <a:solidFill>
                  <a:srgbClr val="ff8000"/>
                </a:solidFill>
                <a:latin typeface="Palatino"/>
              </a:rPr>
              <a:t>STILL SEARCH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1010304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 fontScale="98000"/>
          </a:bodyPr>
          <a:p>
            <a:pPr marL="412200" indent="-41220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Palatino"/>
              <a:buChar char="•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Palatino"/>
              </a:rPr>
              <a:t>What part of this topic has no one ever thought about before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12200" indent="-41220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Palatino"/>
              <a:buChar char="•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Palatino"/>
              </a:rPr>
              <a:t>What do I know about this topic that might surprise the reade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12200" indent="-41220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Palatino"/>
              <a:buChar char="•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Palatino"/>
              </a:rPr>
              <a:t>What about this topic just does not make sense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12200" indent="-41220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Palatino"/>
              <a:buChar char="•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Palatino"/>
              </a:rPr>
              <a:t>Who might have an opinion about this topic that has not been thought abou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Palatino"/>
              </a:rPr>
              <a:t>Your BIG IDEA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2057400"/>
            <a:ext cx="944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000"/>
                </a:solidFill>
                <a:latin typeface="Palatino"/>
              </a:rPr>
              <a:t>Look at the topic you have chosen.  Select some possible ‘big ideas’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641760"/>
            <a:ext cx="98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Palatino"/>
              </a:rPr>
              <a:t>Ask and answer the questions we discussed or some you make up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5318280"/>
            <a:ext cx="10058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000"/>
                </a:solidFill>
                <a:latin typeface="Palatino"/>
              </a:rPr>
              <a:t>If you can, think of several possible ideas and be prepared to share the idea AND how or why you selected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600200"/>
            <a:ext cx="10102680" cy="1295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Palatino"/>
              </a:rPr>
              <a:t>Writing Conferen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3413160"/>
            <a:ext cx="10614240" cy="268272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marL="420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4800" spc="-1" strike="noStrike">
                <a:solidFill>
                  <a:srgbClr val="ff8000"/>
                </a:solidFill>
                <a:latin typeface="Palatino"/>
              </a:rPr>
              <a:t>Be ready to talk about your focus with me during writing workshop this wee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03:24:01Z</dcterms:created>
  <dc:creator>AAPS</dc:creator>
  <dc:description/>
  <dc:language>en-US</dc:language>
  <cp:lastModifiedBy>AAPS</cp:lastModifiedBy>
  <cp:lastPrinted>2005-08-08T23:41:13Z</cp:lastPrinted>
  <dcterms:modified xsi:type="dcterms:W3CDTF">2005-10-20T03:12:37Z</dcterms:modified>
  <cp:revision>13</cp:revision>
  <dc:subject/>
  <dc:title>FEATURE ARTICLE</dc:title>
</cp:coreProperties>
</file>